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FE1-FA66-4FB0-A230-1A908189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726-1082-4568-B663-7A1FB6DE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73A-0386-4B0C-AE75-365CA943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291-7452-4B77-A6AB-981D4E99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2973-83C7-4F1D-B345-B0D3EDF0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CAB3-0705-40C1-9DD4-310D44B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6E93-928C-482D-A453-5EBE49A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C1B8-D2FD-4C9E-8507-F977142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D96-D4D2-4729-806A-6EFB3BE2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4BA9-5580-4916-AC68-D9557671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9D14-0487-4E73-A5E0-D0F6A62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BAD-AC72-4785-AB61-9698F1C3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3D9B-F410-441A-974A-6A6D016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9C29-E69F-444E-AE94-AB95D2F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1FE-839E-40AC-8A8B-9E25CD0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EF1-4B47-4899-9BB9-983A8D9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2E04-66F4-471F-BD98-944279A0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7BE-FD80-4252-A3AA-ABFE99ED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A42-2607-46AE-BFEF-965F64A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C74-65CD-4C60-9034-AC52387D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9B3-8719-4CE7-AD4D-D6B4B0E1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14C-1FB3-463E-822C-475A890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9D1-FE04-4FC9-A08D-663DECA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D31-F405-4FD8-92CD-788824C9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F7DD-E79D-487A-9B0D-7B702708D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5B6-2898-47AD-A834-A304727F4C7A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file:///Anansi%20-%20A_Story__A_Story.asx" TargetMode="External"/><Relationship Id="rId2" Type="http://schemas.openxmlformats.org/officeDocument/2006/relationships/hyperlink" Target="file:///Mathica_s_Mathshop__Food_for_Thought.asf" TargetMode="External"/><Relationship Id="rId3" Type="http://schemas.openxmlformats.org/officeDocument/2006/relationships/hyperlink" Target="file:///Folktales_from_Afar.asf" TargetMode="External"/><Relationship Id="rId4" Type="http://schemas.openxmlformats.org/officeDocument/2006/relationships/hyperlink" Target="file:///An_Introduction_from_the_Storyteller__Donna_Washington.asf" TargetMode="External"/><Relationship Id="rId5" Type="http://schemas.openxmlformats.org/officeDocument/2006/relationships/hyperlink" Target="file:///STOP__LOOK__LISTEN__Okey_Cokey_Karaoke__Anansi__Cat__and_Rat.asf" TargetMode="External"/><Relationship Id="rId6" Type="http://schemas.openxmlformats.org/officeDocument/2006/relationships/hyperlink" Target="file:///STOP__LOOK__LISTEN__Okey_Cokey_Karaoke__Anansi__Cat__and_Rat.asf" TargetMode="External"/><Relationship Id="rId7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hyperlink" Target="http://languagearts.pppst.com/cause-effect.html" TargetMode="External"/><Relationship Id="rId2" Type="http://schemas.openxmlformats.org/officeDocument/2006/relationships/hyperlink" Target="http://languagearts.pppst.com/compoundwords.html" TargetMode="External"/><Relationship Id="rId3" Type="http://schemas.openxmlformats.org/officeDocument/2006/relationships/hyperlink" Target="http://www.pbs.org/wonders/Kids/kids.ht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Anansi%20Goes%20Fishing.htm" TargetMode="External"/><Relationship Id="rId2" Type="http://schemas.openxmlformats.org/officeDocument/2006/relationships/hyperlink" Target="http://www.scottsboro.org/~flewis/SF%20Reading%20Street/spellmaster/Anansi%20Goes%20Fishing/jigword2.html" TargetMode="External"/><Relationship Id="rId3" Type="http://schemas.openxmlformats.org/officeDocument/2006/relationships/hyperlink" Target="http://www.scottsboro.org/~flewis/SF%20Reading%20Street/spellmaster/Anansi%20Goes%20Fishing/matchword2.html" TargetMode="External"/><Relationship Id="rId4" Type="http://schemas.openxmlformats.org/officeDocument/2006/relationships/hyperlink" Target="http://www.scottsboro.org/~flewis/SF%20Reading%20Street/spellmaster/Anansi%20Goes%20Fishing/speedword2.html" TargetMode="External"/><Relationship Id="rId5" Type="http://schemas.openxmlformats.org/officeDocument/2006/relationships/hyperlink" Target="http://www.scottsboro.org/~flewis/SF%20Reading%20Street/spellmaster/Anansi%20Goes%20Fishing/wordsearch2.html" TargetMode="External"/><Relationship Id="rId6" Type="http://schemas.openxmlformats.org/officeDocument/2006/relationships/hyperlink" Target="http://www.scottsboro.org/~flewis/SF%20Reading%20Street/spellmaster/Anansi%20Goes%20Fishing/wordweb.html" TargetMode="External"/><Relationship Id="rId7" Type="http://schemas.openxmlformats.org/officeDocument/2006/relationships/hyperlink" Target="http://www.scottsboro.org/~flewis/SF%20Reading%20Street/spellmaster/Anansi%20Goes%20Fishing%20Spelling%20Words/speedword2.html" TargetMode="External"/><Relationship Id="rId8" Type="http://schemas.openxmlformats.org/officeDocument/2006/relationships/hyperlink" Target="http://www.scottsboro.org/~flewis/SF%20Reading%20Street/spellmaster/Anansi%20Goes%20Fishing%20Spelling%20Words/wordweb.html" TargetMode="External"/><Relationship Id="rId9" Type="http://schemas.openxmlformats.org/officeDocument/2006/relationships/hyperlink" Target="http://www.quia.com/rd/58344.html" TargetMode="External"/><Relationship Id="rId10" Type="http://schemas.openxmlformats.org/officeDocument/2006/relationships/hyperlink" Target="http://www.spellingcity.com/index.php?option=com_spellcity&amp;Itemid=122&amp;task=viewList&amp;listId=354244" TargetMode="External"/><Relationship Id="rId11" Type="http://schemas.openxmlformats.org/officeDocument/2006/relationships/hyperlink" Target="http://www.scottsboro.org/~flewis/SF%20Reading%20Street/Hot%20Potatoes/Anansi_Goes_Fishing.htm" TargetMode="External"/><Relationship Id="rId12" Type="http://schemas.openxmlformats.org/officeDocument/2006/relationships/hyperlink" Target="http://www.scottsboro.org/~flewis/SF%20Reading%20Street/Hot%20Potatoes/Anansi_Goes_Fishing.htm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2.xml"/><Relationship Id="rId3" Type="http://schemas.openxmlformats.org/officeDocument/2006/relationships/slide" Target="slide88.xml"/><Relationship Id="rId4" Type="http://schemas.openxmlformats.org/officeDocument/2006/relationships/slide" Target="slide104.xml"/><Relationship Id="rId5" Type="http://schemas.openxmlformats.org/officeDocument/2006/relationships/slide" Target="slide118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americanfolklore.net/tricksters.html" TargetMode="External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Anansi_Goes_Fishing.htm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79064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Picture 22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981080"/>
            <a:ext cx="37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resent, pas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e saw a toy in the drive w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saw a toy in the drivew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some 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me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poem about how spiders avoid their own sticky trap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cribe Anansi and Turtle, making sure to use at least one pair of antonyms</a:t>
                      </a:r>
                      <a:r>
                        <a:rPr b="0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5" name="Picture 24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small clever insect.  A spider spins long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v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insect.  A spider sp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Picture 9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d your parents see everybody play tennis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see lots of shells wash up on the seashor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ddy keeps me company when nobody is hom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ill paint a picture at recess when I am at sch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st weekend we drove to  a faraway pla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y three teammates told me the answer after the reading tes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ideo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ickster Tales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1"/>
              </a:rPr>
              <a:t>A Story, A Story (Anansi tal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2"/>
              </a:rPr>
              <a:t>Mathica’s Mathshop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3"/>
              </a:rPr>
              <a:t>Folktales from Af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4"/>
              </a:rPr>
              <a:t>African &amp; African-American Folktal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5"/>
              </a:rPr>
              <a:t>Stop, Look, Listen: Okey Cokey Karaoke!: Anansi, Cat, and Rat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fish in the pond yesserd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fished in the pond yesterd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will fished agen tomorro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ill fish again tomorrow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played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cleaned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 monkey that tricked a hippopotamu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ke a list of animals that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unt for prey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s week we read about characters who had creative idea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9" name="Picture 25" descr="Anansi Goes Fishing"/>
          <p:cNvPicPr/>
          <p:nvPr/>
        </p:nvPicPr>
        <p:blipFill>
          <a:blip r:embed="rId1"/>
          <a:stretch/>
        </p:blipFill>
        <p:spPr>
          <a:xfrm>
            <a:off x="419112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72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High-Frequency Words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lphabetical Order to the Second Let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sum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- su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eat it or use it all u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ur fami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huge bowl of popcorn while we watched TV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lot of my extra time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y homework and playing ba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basketball for his birthday last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his birthday l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meone will watch the sailboat near the seasho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on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will watc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lboa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ho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something in the treehouse by our drive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ho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y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breakfast and they were everywhe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fa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they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____ a fish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n you ___ I got my wish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_ will I do with it?” I sa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was a great 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m said ____ I could go agai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e said I could ___ take my friend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do not take him, he will not know where I have _____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i want to do some thing fur bil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ant to do something for Bill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do you had any ideas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ny ideas?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ctionaries, glossaries, and names in a telephone book are all arranged in alhabetical ord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ords that begin with a come before words that begin with b, and so 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metimes two or more words begin with the same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this happens, we alphabetize by the second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, friend, fish, spider, 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id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, where, 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pre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n animal that is hunted and killed by another animal for foo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mall fish are often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bigger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ice are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ca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, stupid, 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, tomorrow, 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, cook, 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Week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Creative Idea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goo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ba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we will read about two sisters who use creative ideas to help each oth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bout a spider's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 prey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3" name="Picture 23" descr="Anansi Goes Fishing"/>
          <p:cNvPicPr/>
          <p:nvPr/>
        </p:nvPicPr>
        <p:blipFill>
          <a:blip r:embed="rId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Quiz # 904599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523880" y="1752480"/>
          <a:ext cx="6096240" cy="399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Cause and Effect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3"/>
                        </a:rPr>
                        <a:t>Kids' Africa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Africa with Anansi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ream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ory, A Story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nky the Tooth Tak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et Quest for 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 Go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g and Drop</a:t>
                      </a: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8" name="Picture 9" descr="Anansi Goes Fishing"/>
          <p:cNvPicPr/>
          <p:nvPr/>
        </p:nvPicPr>
        <p:blipFill>
          <a:blip r:embed="rId4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523880" y="17524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e circle to make a compound wo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Ready to Rea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St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G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der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Picture 9" descr="Anansi Goes Fishing"/>
          <p:cNvPicPr/>
          <p:nvPr/>
        </p:nvPicPr>
        <p:blipFill>
          <a:blip r:embed="rId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hrew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or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very clever and smar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Dad told me to b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deciding what to do with my allowa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etective made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lan to catch the thie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day we’ll learn about combining two words, such as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, to make a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o read compound words, first chunk the word into two wor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ad the two words and then blend them into one word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Let’s blend this word together: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il-boat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omeon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bedtim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nowstor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anc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may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dayti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upcak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li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aysta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net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choolyar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everyth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athtu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dr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ip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pla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520" y="1790640"/>
            <a:ext cx="29718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che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nowfl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05160" y="179064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sho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ek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nt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cky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bys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en you read compound words, chunk the word into two small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ad the two words and blend them into one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Student Pages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09120" y="-609480"/>
            <a:ext cx="8534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ir purse is durt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r purse is dirt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tirtle ca’nt run fas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urtle can’t run fast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Jeb bakes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tells about now.  It ends with –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baked tells about the past.  It ends with –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will bake tells about the future.  It begins with wi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179064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480" y="179064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7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8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9"/>
              </a:rPr>
              <a:t>Quia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0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1"/>
              </a:rPr>
              <a:t>Fill-in-the Blank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2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invents new kinds of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sprinkles coconu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added pineappl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will use squ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will make my own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m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own muffins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about a trickster named Anansi who gets tricked himsel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 paragraph about a time when you were shrewd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3" name="Picture 32" descr="Anansi Goes Fishing"/>
          <p:cNvPicPr/>
          <p:nvPr/>
        </p:nvPicPr>
        <p:blipFill>
          <a:blip r:embed="rId1"/>
          <a:stretch/>
        </p:blipFill>
        <p:spPr>
          <a:xfrm>
            <a:off x="419112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someone tries to trick you or when anyone lies to you?  What is something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ries to trick you or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lies to you?  What i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9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  <a:ea typeface="Arial"/>
              </a:rPr>
              <a:t>Word Reading: </a:t>
            </a:r>
            <a:br>
              <a:rPr sz="4000"/>
            </a:b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Pick out the compound words in “Mistake in the Lake.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123720" y="2171880"/>
            <a:ext cx="533412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p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ts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m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unch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un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alf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ome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boas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who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rags or speaks too well of himself of hersel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girl alway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her grad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Jim says he can run faster than I can, but I think he’s jus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glo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think about something you’re very satisfied with,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two farmers in the stor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at their machines would get rid of the mi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y big brothe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his team’s first win all s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nick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 - 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you giggle or laugh in a mean 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one farmer saw the other’s mouse-catching machine, 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kid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the strange-looking ca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basketball in the drivewa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birthday party will be in the backya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riverbank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Big Question: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popcorn before bedtime on the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opco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efor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dtim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you read, ask yourself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for clue words, such as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that signal cau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en you read a story, ask yourself questions like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o is this story abou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does it happe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don’t know the answer to a question, then stop the way you have been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 might need to slow dow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read more slowly, you can better understand what you are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bcbcb"/>
                </a:solidFill>
                <a:uFillTx/>
                <a:latin typeface="Times New Roman"/>
                <a:hlinkClick r:id="rId1"/>
              </a:rPr>
              <a:t>Trickster Tal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479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ometimes characters try to trick one another to get what they want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2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High-Frequency Word Revie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52480" y="179064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o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ro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52520" y="179064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atch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answer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28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zy – not liking to work or be acti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ave – to form threads into cloth or web or to make straw into hats or bask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licious – something that tastes really go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stice- something that is fair and righ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watched Little Spider ____ a larg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felt ____, so she did not help Little Spid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ate a _____ bug that got caught in th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said, “Too bad you’re hungry, Big Spider, but that’s ____!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-22860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last week end I sent a leter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t weekend I sent a lett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my mom red a story at bed time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mom read a story at bedtime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fish now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ow. (presen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fish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futur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nother very tricky charact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nk of a time when you had a good idea and tell what happened when you used it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5" descr="Anansi Goes Fishing"/>
          <p:cNvPicPr/>
          <p:nvPr/>
        </p:nvPicPr>
        <p:blipFill>
          <a:blip r:embed="rId1"/>
          <a:stretch/>
        </p:blipFill>
        <p:spPr>
          <a:xfrm>
            <a:off x="4267080" y="563868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Yesterday Farmer Smart had a problem.  Today he finds a way to fix it.  Tomorrow he won’t have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23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Farmer Smart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d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problem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finds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way to fix it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on’t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v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Picture 9" descr="Anansi Goes Fishing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7" name="Picture 9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ong o: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, oa, 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tentm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– tent – 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 feeling of being pleased or satisfi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og stretched and sighed i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fter dinner, we sat around the campfire in complet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you, it makes you feel better and healthy agai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medicine the doctor gave m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y r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cientists are searching for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r many different disea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incid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 – ci - 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something tha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movie had some very exci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n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om told us several funn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rom her tri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Making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 – o</a:t>
            </a:r>
            <a:r>
              <a:rPr b="1" lang="en-US" sz="8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d – g – l – m – t – w</a:t>
            </a:r>
            <a:r>
              <a:rPr b="0" lang="en-US" sz="6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276720" y="1523880"/>
          <a:ext cx="3047760" cy="45291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Sunday morning and said, “____ I don’t have to go to school.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love all kinds of foods and will eat ____ Dad puts on my plat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you ___ fairy tales are true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esterday I went fishing and ____ three fish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Thursday and said, “___ is Fri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have ___ sick for three day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can’t wait until I’m ___ old enough to driv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733920" y="1600200"/>
          <a:ext cx="4917960" cy="454176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51:42Z</dcterms:modified>
  <cp:revision>28</cp:revision>
  <dc:subject/>
  <dc:title>Slide 1</dc:title>
</cp:coreProperties>
</file>